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3E84-13B9-4201-82BA-53183E29B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654B-6E63-4D34-A580-2B176A83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887-5A05-4A72-A003-AD6E590B6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92D6-E126-4A49-97DC-2FEF7481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65AC-A4D2-4655-8BAE-797902F6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39B4-C3FD-49A7-A4CD-AC4C4CA3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D7AC-A520-4C4F-B177-330CC1F9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2DAF-A2F5-4739-9903-456AE504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9D32-FB5F-46A4-B9E8-51495B70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E7F5-B335-4CFE-A50D-7EE98335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1CA6A-F0CD-4EF6-91D1-DA67CADC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3181-75F4-4CDF-9CB0-39493BEE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53A2B-7077-4B31-8C3F-BC826890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1A90-1C21-4FDD-9B8E-BFFD0CC1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C167-7F60-4F63-9FB0-B087FE8D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A91B-099B-4B56-9870-2EA81F20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E9BE3-76B5-4D0E-B698-B0F1AA6EC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680-AE21-4979-B764-B6EFA108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E4D-4493-4EEA-9AA6-6F69CAEE3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14DB-24F4-404A-ABD6-67C92CBF3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E19-D33C-4283-A87B-E051BDB9A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D318-B63B-4C80-8A1A-2ABA3977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F9D3-8A3A-4759-BC19-375A0E6F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B70-A2A3-46A9-86E0-1F5286B8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en.wikipedia.org/wiki/Image:Restaurant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8574-7A1A-4E93-87DC-01A6823AD7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0" b="19989"/>
          <a:stretch/>
        </p:blipFill>
        <p:spPr>
          <a:xfrm>
            <a:off x="0" y="6248520"/>
            <a:ext cx="4086360" cy="5331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A typical restaurant in uptown Manhattan - 's hangou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781680" y="0"/>
            <a:ext cx="2362320" cy="159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53452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D84F-C353-4FBD-870D-6A7006E072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n.wikipedia.org/wiki/Image:Restaurant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81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Manhattan Restaurant  Selection Optimization </a:t>
            </a:r>
            <a:r>
              <a:rPr b="1" i="1" lang="en-US" sz="2000" spc="-1" strike="noStrike">
                <a:solidFill>
                  <a:srgbClr val="330066"/>
                </a:solidFill>
                <a:latin typeface="Arial"/>
              </a:rPr>
              <a:t>(my, don’t we sound fancy…)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952880" y="3047760"/>
            <a:ext cx="3516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ecisio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y 2,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ris Ire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ichael McK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ri O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dd Re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elena Strelc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5810400"/>
            <a:ext cx="9144000" cy="1123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A typical restaurant in uptown Manhattan - 's hangou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52280" y="2259000"/>
            <a:ext cx="502920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stacles: Lo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location is not most important criterion, model should favor similar restaurants in proximate neighborh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 of taxi cab fares used as a proxy for raw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allows the model to return an ideal restaurant in SoHo, when Lower East Side is a weak p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7724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bstacles: Sol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usly reordering the 300+ restaurants to get the maximum utility for the top ten restaurants took Solver an extremely long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RGE function was more effici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oses the n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argest number in an array, with the “n” being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vorite Function” of Professor Jur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odel Dem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1638360"/>
            <a:ext cx="6477120" cy="48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imita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ull data not represent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l featured approximately 320 restaur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neighborhoods grouped by proximity (i.e. West 60s – 100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net links to full reviews could be added at a later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ditional criteria could be inclu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could indicate preference for romantic setting, kid-friendly atmosphere, great bathroom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tensions to Business Environmen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ious applications of model to managerial decision-making if data set and interface is modifi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y decision that requires ranked/rated preferences coupled with quantitative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ographic location se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ansion consider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 location selec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rcing of talent (recruit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dor/sales selection (i.e. technolog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810400"/>
            <a:ext cx="9144000" cy="112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1143000" y="152280"/>
          <a:ext cx="7086600" cy="5583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52280"/>
                    <a:ext cx="7086600" cy="55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9880" y="1066320"/>
            <a:ext cx="4267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Questions?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Overvie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ulating Our 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od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bstac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del Dem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tensions to the Business Environ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876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ousands of restaurants in Manhattan, over 25 different neighborhood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Manhattan Map 20K"/>
          <p:cNvPicPr/>
          <p:nvPr/>
        </p:nvPicPr>
        <p:blipFill>
          <a:blip r:embed="rId1"/>
          <a:stretch/>
        </p:blipFill>
        <p:spPr>
          <a:xfrm>
            <a:off x="5343480" y="0"/>
            <a:ext cx="38005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3962520"/>
            <a:ext cx="510552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urrent guides are inadequate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ndexed by several criteria, but rarely cross-index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sider all factors to be equally important in decision mak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3680" indent="-323280">
              <a:spcBef>
                <a:spcPts val="524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ne cuisine or location at a time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895480"/>
            <a:ext cx="4876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900" spc="-1" strike="noStrike">
                <a:solidFill>
                  <a:srgbClr val="cccc00"/>
                </a:solidFill>
                <a:latin typeface="Arial"/>
              </a:rPr>
              <a:t>“</a:t>
            </a:r>
            <a:r>
              <a:rPr b="0" i="1" lang="en-US" sz="2900" spc="-1" strike="noStrike">
                <a:solidFill>
                  <a:srgbClr val="cccc00"/>
                </a:solidFill>
                <a:latin typeface="Arial"/>
              </a:rPr>
              <a:t>Where the hell do we eat tonight?”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ulating Our 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1600200"/>
            <a:ext cx="8610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164520" indent="-1645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2280" indent="-16668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Manhattan restaur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73760" indent="-140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ny recent ratings data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473760" indent="-140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st dat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473760" indent="-140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32280" indent="-16668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2280" indent="-16668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maximize utility of dining o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 an ongoing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4520" indent="-16452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32280" indent="-16668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ormulating Our Solu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1600200"/>
            <a:ext cx="861048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ratings da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16 restaurants with Zagat scores (food, décor, service and co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57600" indent="-28476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d Fields for cuisine type and Manhattan neighborho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886200"/>
            <a:ext cx="8305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inputs page for user to rank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oose up to three cuisines and lo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cate your price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649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ight each criterion based on personal import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Model: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olution Method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Principle: SOLVER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restaurant utility scores and use solver to maxim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Reorganize restaurant list until some sum of ten restaurants yields the highest overall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tion and cuisine penal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Penalties weighted based on the relative importance of each criterion, as indicated by th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restaurant information with INDEX and VLOOKUP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Model: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put P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086600" cy="4362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 flipH="1">
            <a:off x="2895120" y="2666880"/>
            <a:ext cx="1143000" cy="6098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8480" y="24829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More than on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2895480" y="4495680"/>
            <a:ext cx="1371600" cy="565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48769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More than one cuis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2895120" y="540972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568332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User defined price 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4190760" y="2819520"/>
            <a:ext cx="533160" cy="609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419720" y="24066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riteria weigh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190760" y="2819520"/>
            <a:ext cx="1066680" cy="1676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86400" y="2819520"/>
            <a:ext cx="152280" cy="761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2819520"/>
            <a:ext cx="7632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400800" y="2819520"/>
            <a:ext cx="228600" cy="1904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308304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Model: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Output P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7391520" cy="4060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581280" y="1676520"/>
            <a:ext cx="36813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2164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32448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The Model: “Bang For Your Buck” Graph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981080"/>
            <a:ext cx="2362320" cy="17528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F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6400" y="2033640"/>
            <a:ext cx="685800" cy="10666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0111400">
            <a:off x="5181840" y="2276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es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01:55:01Z</dcterms:created>
  <dc:creator> </dc:creator>
  <dc:description/>
  <dc:language>en-US</dc:language>
  <cp:lastModifiedBy>Todd Rendle</cp:lastModifiedBy>
  <dcterms:modified xsi:type="dcterms:W3CDTF">2005-05-02T14:00:01Z</dcterms:modified>
  <cp:revision>79</cp:revision>
  <dc:subject/>
  <dc:title>Brand Planning</dc:title>
</cp:coreProperties>
</file>